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A86-4764-4CAF-BA4F-AAA32A40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23B3-25A0-4F35-968F-88BA61ED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2037-8810-47DE-A119-02BB057D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C25D-C437-46EE-ACC8-8E6FC21F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EF16-0422-4FC3-AA79-D5B71BDF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64F0-17F9-4AAC-AE7E-1083110E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2AA5-6D5B-457D-AE8E-767C8637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0657-8111-4C3B-B2AC-3554D10C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F3BF-6933-43D8-8CD7-61A45685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7767-65B7-481D-AD85-98ABD614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F732-F2D3-42E2-9326-C8A1A1EB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3A41-4819-4D2D-B853-D00F5862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977F-00EA-46ED-9636-5A266A99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5664-5D81-4BF1-9D71-BC2B3AAC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5650-B5EB-41B8-8DD8-7CFDB287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A70F-E216-48BD-B12A-0874FCEC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BA22-7911-4B67-886D-DB826859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4349-E1F2-496B-8EC1-CE77DDD3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933-DCEA-4D51-9E81-84D4604D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918-3062-4B10-B277-5262A7A0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168-FE62-437E-9175-6BF74F63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7083-192B-45B6-A044-E4D1EBD7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8B6B-2993-4900-991A-919EEF03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70F8-DA41-4B89-8D7C-4239121C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036A-5B15-4670-8811-42E4667B16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3E1E-7B76-4A62-9A7D-329983FC19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JOIN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43000" y="3733920"/>
            <a:ext cx="739152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cle proprietary JOINS / ANSI/ISO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83640" y="609588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. Carmen Popes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acle Academy Lead Adju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ULL-OUTER JO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acle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419720"/>
            <a:ext cx="792468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 cu clauza ON (AN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.last_name, e.department_id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.department_na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  employees e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FULL OUTER JOI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departments 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urier New"/>
              </a:rPr>
              <a:t>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(e.department_id=d.department_id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iseaza toate informatiile din ambele tab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05740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 EXISTA FULL OUTER JOIN IN SINTAXA ORACLE PT. CA NU SE POATE PUNE + PE AMBELE PARTI ALE SEMNULUI DE EGAL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095880" y="1828800"/>
          <a:ext cx="2590920" cy="22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828800"/>
                    <a:ext cx="259092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Equijoin (Oracle) </a:t>
            </a: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/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Natural Join (ANSI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join (Ora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vent_id,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p.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ong_id, t.cd_numb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d_play_list_items p, d_track_listings 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WHERE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p.song_id = t.song_i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ural Join (AN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vent_id, song_id , cd_numbe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d_play_list_items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NATURAL JOI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d_track_listing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Join este un equijoin care leaga cele doua tabele pe toate coloanele cu nume comun din cele doua tabele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loanele comune celor doua tabele trebuie sa aiba acelasi tip altfel rezulta ero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 e nevoie sa se foloseasca alias pt. tabe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Equijoin (Oracle) </a:t>
            </a: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/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Join…USING (ANSI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1756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join (Ora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vent_id,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p.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ong_id, t.cd_numb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d_play_list_items p, d_track_listings 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WHERE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p.song_id = t.song_i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in cu clauza USING (AN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vent_id, song_id , cd_numbe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d_play_list_items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JOI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d_track_listing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USING (song_i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0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clauza USING se trec coloanele pe care se face join-ul. Este utila atunci cand tabelele au mai multe coloane cu nume comun dar nu dorim in conditia de join sa folosim decat o parte din aceste coloan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95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Equijoin (Oracle) </a:t>
            </a: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/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Join…ON (ANSI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join (Ora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LECT event_id,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p.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ng_id, t.cd_num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OM d_play_list_items p, d_track_listings 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ERE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p.song_id = t.song_id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 cu clauza ON (AN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LECT event_id, song_id , cd_numbe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OM d_play_list_items p </a:t>
            </a:r>
            <a:r>
              <a:rPr b="1" lang="en-US" sz="1500" spc="-1" strike="noStrike">
                <a:solidFill>
                  <a:srgbClr val="ff0000"/>
                </a:solidFill>
                <a:latin typeface="Courier New"/>
              </a:rPr>
              <a:t>JOI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d_track_listings 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ON (p.song_id=t.song_id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 clauz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se pot specifica orice fel de conditii. Se pot lega tabele care nu au coloane cu acelasi n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artesian Product (Oracle)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/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ross Join (ANSI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tesian Product (Oracle) – e ca un equijoin la care s-a omis conditia de 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first_name, last_name, departmen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, departmen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 join (ANSI) – are acelasi efect ca si Cartesian Product, adica "leaga" fiecare inregistrare din prima tabela cu fiecare inregistrare din a doua tab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first_name, last_name, departmen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ROSS JO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departmen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Nonequijoin (Oracle) </a:t>
            </a: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/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Join…ON (ANSI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join (Ora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.last_name, e.salary, j.grade_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  employees e, job_grades j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WHERE  e.salar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       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BETWEEN j.lowest_sal AND j.highest_s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 cu clauza ON (AN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.last_name, e.salary, j.grade_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  employees e </a:t>
            </a:r>
            <a:r>
              <a:rPr b="0" lang="en-US" sz="1700" spc="-1" strike="noStrike">
                <a:solidFill>
                  <a:srgbClr val="ff0000"/>
                </a:solidFill>
                <a:latin typeface="Courier New"/>
              </a:rPr>
              <a:t>JOI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job_grades j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urier New"/>
              </a:rPr>
              <a:t>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(e.salary BETWEEN j.lowest_sal AND j.highest_s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elf Join (Oracle) </a:t>
            </a: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/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Join…ON (ANSI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join (Ora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.last_name||' '||e.first_name AS "Angajat"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.kast_name||' '||m.first_name AS "Manager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employees e, employees 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WHERE e.manager_id=m.employee_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 cu clauza ON (AN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.last_name||' '||e.first_name AS "Angajat"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m.kast_name||' '||m.first_name AS "Manager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employees e </a:t>
            </a:r>
            <a:r>
              <a:rPr b="0" lang="en-US" sz="1700" spc="-1" strike="noStrike">
                <a:solidFill>
                  <a:srgbClr val="ff0000"/>
                </a:solidFill>
                <a:latin typeface="Courier New"/>
              </a:rPr>
              <a:t>JOI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employees 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urier New"/>
              </a:rPr>
              <a:t>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(e.manager_id=m.employee_i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FT-OUTER JO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acle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.last_name, e.department_id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.department_na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  employees e, departments 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WHERE  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e.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epartment_id =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department_id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(+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867280" y="1752480"/>
          <a:ext cx="319104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752480"/>
                    <a:ext cx="319104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914400" y="4419720"/>
            <a:ext cx="792468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 cu clauza ON (AN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.last_name, e.department_id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.department_na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  employees e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LEFT OUTER JOI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departments 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urier New"/>
              </a:rPr>
              <a:t>ON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(e.department_id=d.department_id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iseaza toate informatiile din tabela din STANGA (employe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33526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iseaza toti angajatii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U SAU F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artament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, plusul e pe partea cu departament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IGHT-OUTER JO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acle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.last_name, e.department_id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.department_na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  employees e, departments 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WHERE  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e.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epartment_id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(+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.department_i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4419720"/>
            <a:ext cx="792468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 cu clauza ON (AN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ELECT e.last_name, e.department_id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.department_na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ROM   employees e 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RIGHT OUTER JOI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departments 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urier New"/>
              </a:rPr>
              <a:t>ON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(e.department_id=d.department_id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iseaza toate informatiile din tabela din DREAPTA (departmen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33526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iseaza toate departamentele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U SAU F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gajati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, plusul e pe partea cu angajat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400800" y="914400"/>
          <a:ext cx="258120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914400"/>
                    <a:ext cx="25812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8:30:48Z</dcterms:created>
  <dc:creator>carmen</dc:creator>
  <dc:description/>
  <dc:language>en-US</dc:language>
  <cp:lastModifiedBy>kome</cp:lastModifiedBy>
  <dcterms:modified xsi:type="dcterms:W3CDTF">2007-09-18T17:50:56Z</dcterms:modified>
  <cp:revision>64</cp:revision>
  <dc:subject/>
  <dc:title>SINGLE ROW FUNCTIONS</dc:title>
</cp:coreProperties>
</file>